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49216"/>
        <c:axId val="44000167"/>
      </c:barChart>
      <c:catAx>
        <c:axId val="32949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00167"/>
        <c:crosses val="autoZero"/>
        <c:auto val="1"/>
        <c:lblAlgn val="ctr"/>
        <c:lblOffset val="100"/>
        <c:noMultiLvlLbl val="0"/>
      </c:catAx>
      <c:valAx>
        <c:axId val="44000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49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6F4-806F-414E-84E9-923C97DB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BB9-4664-49E0-9FE8-1BDEE6BC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973-FD09-42AC-87BD-828F95C2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52F-16A0-4EED-A170-BF58B1E5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F85-79D5-4A97-A31B-7ECEA61C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F94-C10B-4788-8939-A4916E22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4F8-0F08-499E-8C15-6E836798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2D2-C532-48C0-9479-27283F1E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471-4953-4C3D-B52C-92E2603D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5D2-130C-4C26-8504-D9CA4E2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BF1-7407-448C-9A8F-879F66B0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C08-3D79-4273-9557-7884B0AC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AD61F-5FDB-47E2-B57B-4294601918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